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953-A907-45CD-B34C-E5321857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F1F-152A-4080-BBF8-111324BE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A7C-98FF-43B2-A888-E7D90EF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429-16BC-4D04-B84C-4FD5823F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5B2-4BA8-42E4-8547-03A5C382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4972-FD53-4967-8890-37A132D0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18EC-5ABC-4248-900D-0E9E193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F6E3-2751-4C7F-993D-695B24B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E49F-D975-4E3B-A6F7-1C0BA3DE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8A57-FAE7-4CB5-A199-5D2EE8BE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36B-772F-4142-BE74-62340C1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27A-9D8D-4BBB-9D02-D1B4B360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F03-8A39-4824-916A-AD5D10D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1DD-66BF-424D-A413-736DE999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E53D-CA68-4F09-B5CD-C7FE0ADB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696-0477-40E0-A3D5-6D04CEB2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83E7-2954-49D3-A073-81079DF2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261-131F-4E26-8228-FBBD48D5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BAA-84D5-4334-9DA6-F5D9394B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886-EE45-4BC2-840D-CB158C23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57F-A5D0-4B7E-AAF3-2B38938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608-0651-44E0-8148-53FC2D2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6CF-AC0F-4957-910F-8E0D3C9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576-30CF-47CC-9A8F-9BD80F35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D8A7-4176-4B5B-8169-5786F6103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067-FFFA-40BF-82DC-6003418B2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Introduction to Power Poi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T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hearse Timing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lide Show 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is recorded for each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imation p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s: On c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 Pane: More advanc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erting Audio/Graphic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sert 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– From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e-Trig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–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sa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french.mp3" descr=""/>
          <p:cNvPicPr/>
          <p:nvPr/>
        </p:nvPicPr>
        <p:blipFill>
          <a:blip r:embed="rId1"/>
          <a:stretch/>
        </p:blipFill>
        <p:spPr>
          <a:xfrm>
            <a:off x="849240" y="5410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8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It Si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Fo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over crow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use too many wo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 background and text col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e your slide s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earse your Tim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it simple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ic Inf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CRIPT on s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:  Very Little text in all FRE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Ingred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of Place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: 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Limi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666880" y="7621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it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 Point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 Point 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Point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Point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2 Poi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 Point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8 Point Siz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934320" y="304920"/>
            <a:ext cx="1676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495680" y="5029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7920" y="53352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nt Types and Col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1981080"/>
            <a:ext cx="865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basic font like Arial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l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mix fonts-Sans seri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ground and text col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posi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aw Atten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raw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tal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raw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age Color and Siz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dd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“cute” pictures are distrac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difficult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Object 11"/>
          <p:cNvGraphicFramePr/>
          <p:nvPr/>
        </p:nvGraphicFramePr>
        <p:xfrm>
          <a:off x="5715000" y="2963880"/>
          <a:ext cx="3124080" cy="29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963880"/>
                    <a:ext cx="312408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18"/>
          <p:cNvGrpSpPr/>
          <p:nvPr/>
        </p:nvGrpSpPr>
        <p:grpSpPr>
          <a:xfrm>
            <a:off x="5334120" y="2971800"/>
            <a:ext cx="3276000" cy="3123720"/>
            <a:chOff x="5334120" y="2971800"/>
            <a:chExt cx="3276000" cy="3123720"/>
          </a:xfrm>
        </p:grpSpPr>
        <p:sp>
          <p:nvSpPr>
            <p:cNvPr id="106" name="Rectangle 12"/>
            <p:cNvSpPr/>
            <p:nvPr/>
          </p:nvSpPr>
          <p:spPr>
            <a:xfrm>
              <a:off x="5334120" y="297180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6799680" y="297180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8524440" y="2971800"/>
              <a:ext cx="8568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5420160" y="4533480"/>
              <a:ext cx="85680" cy="9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5506200" y="600408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Rectangle 55"/>
          <p:cNvSpPr/>
          <p:nvPr/>
        </p:nvSpPr>
        <p:spPr>
          <a:xfrm rot="10800000">
            <a:off x="86104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56"/>
          <p:cNvSpPr/>
          <p:nvPr/>
        </p:nvSpPr>
        <p:spPr>
          <a:xfrm rot="10800000">
            <a:off x="7162560" y="6095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8"/>
          <p:cNvSpPr/>
          <p:nvPr/>
        </p:nvSpPr>
        <p:spPr>
          <a:xfrm rot="10800000">
            <a:off x="8686800" y="4267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60"/>
          <p:cNvSpPr/>
          <p:nvPr/>
        </p:nvSpPr>
        <p:spPr>
          <a:xfrm>
            <a:off x="8229600" y="16002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1029" descr="00award_sm"/>
          <p:cNvPicPr/>
          <p:nvPr/>
        </p:nvPicPr>
        <p:blipFill>
          <a:blip r:embed="rId3"/>
          <a:stretch/>
        </p:blipFill>
        <p:spPr>
          <a:xfrm>
            <a:off x="457200" y="7238880"/>
            <a:ext cx="3505320" cy="274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S00360_"/>
          <p:cNvPicPr/>
          <p:nvPr/>
        </p:nvPicPr>
        <p:blipFill>
          <a:blip r:embed="rId4"/>
          <a:stretch/>
        </p:blipFill>
        <p:spPr>
          <a:xfrm>
            <a:off x="457200" y="4800600"/>
            <a:ext cx="3166920" cy="166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0.16694 L 0.01666 -0.49989 E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6 X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more than six lines on each slid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aximum of 7-10 word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imation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text/graphic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Ent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62120" y="3124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/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Emph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38800" y="4114800"/>
            <a:ext cx="47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ombine too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Ex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3581280" y="1600200"/>
            <a:ext cx="3429000" cy="129528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to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it simple/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7:13:00Z</dcterms:created>
  <dc:creator>CLMS</dc:creator>
  <dc:description/>
  <dc:language>en-US</dc:language>
  <cp:lastModifiedBy>RShine</cp:lastModifiedBy>
  <dcterms:modified xsi:type="dcterms:W3CDTF">2013-03-17T16:11:06Z</dcterms:modified>
  <cp:revision>52</cp:revision>
  <dc:subject/>
  <dc:title>Introduction to Power Point</dc:title>
</cp:coreProperties>
</file>